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ABD-B74E-4284-A5E6-CAA4D564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361-F758-43E8-93A6-77821716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153-6F9F-4576-986C-43B576D1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F5E-A8CE-4A49-BEB4-0029923E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844E-1F3B-4F3A-9AE5-0C02765E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D142-9343-40B0-90BA-5BB57173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E715-010F-40FE-A0B8-CB227D0D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C5B5-DF37-4BD2-85CA-AD689CC8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B797-A6C5-4116-A4ED-22B87FDE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E905-8E11-4F55-9DE4-1670022B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A596-4C44-47D3-95F5-DDCF53E2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D3F-57C2-48FD-9083-C1CB3392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631D-5A79-40E7-B9EA-2B873776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01F3-9EBC-4DD5-AE71-2C0D1894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29DC-AF6C-4AD2-8B14-1C5DB5AC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9711-4283-4B74-9C71-C5C2023C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F8B7-C58E-4CE7-AD20-8A4F292D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CAA-A93D-463F-A3DB-D4E775DE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65B-30EB-48A7-8992-55011C90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16C-0FA8-4F40-8CE6-A917CA9C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785-FF80-4B67-9E69-B1DAA63E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85F-2A59-4C83-BD34-1E8B0164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4F8-8CB5-49C2-9FAD-ACFEE718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1C0-AB0C-4529-B662-97963FED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654F-FE72-4E2A-B8BE-568352B84CA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EC20-7708-4F69-8A6A-E3AF0920BEC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0" y="189000"/>
            <a:ext cx="8604360" cy="40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зиционные чередова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гласных и гласны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1763640" y="3429000"/>
            <a:ext cx="6913800" cy="28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гласные звонкие и глух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Verdana"/>
              </a:rPr>
              <a:t>Помоги определить, какую букву надо вставить!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120" y="1773000"/>
            <a:ext cx="8642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Verdana"/>
              </a:rPr>
              <a:t>Как у старой ба_ 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Verdana"/>
              </a:rPr>
              <a:t>Жили-были ла_ к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Verdana"/>
              </a:rPr>
              <a:t>Встанет ба_ ка утром рано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Verdana"/>
              </a:rPr>
              <a:t>Выйдет в погре_ за сметаной 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Verdana"/>
              </a:rPr>
              <a:t>Ла_ ки всле_ за ней идут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Verdana"/>
              </a:rPr>
              <a:t>Всюду ба_ ку стерегут</a:t>
            </a:r>
            <a:r>
              <a:rPr b="1" i="1" lang="ru-RU" sz="30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Verdana"/>
              </a:rPr>
              <a:t>Назвать эти предметы и записать данные названия в правильном виде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rus44-5"/>
          <p:cNvPicPr/>
          <p:nvPr/>
        </p:nvPicPr>
        <p:blipFill>
          <a:blip r:embed="rId2"/>
          <a:stretch/>
        </p:blipFill>
        <p:spPr>
          <a:xfrm>
            <a:off x="1979640" y="1490760"/>
            <a:ext cx="66960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Фонетический творческий диктан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600" spc="-1" strike="noStrike">
                <a:solidFill>
                  <a:srgbClr val="336699"/>
                </a:solidFill>
                <a:latin typeface="Verdana"/>
              </a:rPr>
              <a:t>Закончите начатые предложения, вставив нужные по смыслу сло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Verdana"/>
              </a:rPr>
              <a:t>В образовании согласных участвует шум, а в образовании гласных ..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Verdana"/>
              </a:rPr>
              <a:t>Согласные слышны на расстоянии плохо. Их трудно прокричать. А гласные слышны ..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Verdana"/>
              </a:rPr>
              <a:t>Когда произносят согласные, то во рту непременно есть преграда для воздушной струи. А когда произносят гласные, ...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Подобрать и записать слова, отличающиеся только глухостью/звонкостью одного или двух согласных. </a:t>
            </a:r>
            <a:br>
              <a:rPr sz="2400"/>
            </a:br>
            <a:r>
              <a:rPr b="1" lang="ru-RU" sz="2400" spc="-1" strike="noStrike" u="sng">
                <a:solidFill>
                  <a:srgbClr val="cc0000"/>
                </a:solidFill>
                <a:uFillTx/>
                <a:latin typeface="Verdana"/>
              </a:rPr>
              <a:t>Кто быстрее сделает, тот и победит</a:t>
            </a:r>
            <a:r>
              <a:rPr b="0" lang="ru-RU" sz="2800" spc="-1" strike="noStrike" u="sng">
                <a:solidFill>
                  <a:srgbClr val="cc0000"/>
                </a:solidFill>
                <a:uFillTx/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2349360"/>
          <a:ext cx="8001000" cy="41767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ол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а 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з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 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лой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воих 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аль 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алость 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ить 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ить 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ять 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с –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Проверь себя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6640" y="1752480"/>
          <a:ext cx="8001000" cy="388944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олос- </a:t>
                      </a: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кол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а – </a:t>
                      </a: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го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за -</a:t>
                      </a: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кос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 –</a:t>
                      </a: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го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лой- </a:t>
                      </a: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слой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воих – </a:t>
                      </a: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двои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аль – </a:t>
                      </a: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ша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алость – </a:t>
                      </a: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жал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ить – </a:t>
                      </a: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ши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ить – </a:t>
                      </a: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би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ять –</a:t>
                      </a: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зия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с –</a:t>
                      </a:r>
                      <a:r>
                        <a:rPr b="1" lang="ru-RU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ба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Verdana"/>
              </a:rPr>
              <a:t>Попробуйте и вы прочитать письмо.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этого вам надо вспомнить парные звонкие и глухие согласные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иглашаю тебя на свадьбу дочер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Т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ом № 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ж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есть по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т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к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орой. Зеленая 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т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верь налево. 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Д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ам будет много 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к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остей. Моя 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т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очка 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Д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ома в 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в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ате. 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Ш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аль, что из-за 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т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ел не могу тебя встретить.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Б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ока.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С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ах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Ш</a:t>
            </a:r>
            <a:br>
              <a:rPr sz="2800"/>
            </a:b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Verdana"/>
              </a:rPr>
              <a:t>Образуйте слова, вставив пропущенные буквы. Объясните свой выбо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rus44-2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1835280" y="1989000"/>
            <a:ext cx="5976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br>
              <a:rPr sz="2800"/>
            </a:b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Verdana"/>
              </a:rPr>
              <a:t>Вставьте пропущенные буквы. Объясните свой выбо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rus44-3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55640" y="1768320"/>
            <a:ext cx="792000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то больше?</a:t>
            </a:r>
            <a:br>
              <a:rPr sz="2800"/>
            </a:b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Подберите как можно больше проверочных слов к данным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66960" indent="-49536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Verdana"/>
              </a:rPr>
              <a:t>Гриб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003366"/>
                </a:solidFill>
                <a:latin typeface="Verdana"/>
              </a:rPr>
              <a:t>зуб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Verdana"/>
              </a:rPr>
              <a:t>бровь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Verdana"/>
              </a:rPr>
              <a:t>клюв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Verdana"/>
              </a:rPr>
              <a:t>пирог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003366"/>
                </a:solidFill>
                <a:latin typeface="Verdana"/>
              </a:rPr>
              <a:t>сапог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Verdana"/>
              </a:rPr>
              <a:t>утюг</a:t>
            </a:r>
            <a:r>
              <a:rPr b="1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Verdana"/>
              </a:rPr>
              <a:t>Вставите в предложенные существительные правильную букву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4" descr="rus44-4"/>
          <p:cNvPicPr/>
          <p:nvPr/>
        </p:nvPicPr>
        <p:blipFill>
          <a:blip r:embed="rId2"/>
          <a:stretch/>
        </p:blipFill>
        <p:spPr>
          <a:xfrm>
            <a:off x="539640" y="2276640"/>
            <a:ext cx="7632720" cy="3528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1125720" y="6165000"/>
            <a:ext cx="66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Verdana"/>
              </a:rPr>
              <a:t>Оглушение и озвончение согласных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47:27Z</dcterms:created>
  <dc:creator>INNA</dc:creator>
  <dc:description/>
  <dc:language>en-US</dc:language>
  <cp:lastModifiedBy>BLACKGIRL</cp:lastModifiedBy>
  <dcterms:modified xsi:type="dcterms:W3CDTF">2010-01-29T23:12:34Z</dcterms:modified>
  <cp:revision>2</cp:revision>
  <dc:subject/>
  <dc:title>Слайд 1</dc:title>
</cp:coreProperties>
</file>